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815-B2A2-45C4-A090-1B92DAFA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9CB-4CC6-43C3-A79E-29665DF3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305-575A-477F-B655-6D9EEB7D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2D1-687A-4691-BC45-558EF9DC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AED2-403A-4E55-BF37-D3061D1D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B02-9E56-4E1A-8C55-BA34D1F2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6560-7C86-4CE8-8733-A0D6086E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40A-EEC9-4443-B2A5-E79F32A6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338A-83F5-47C4-9EAF-3AD35B9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0B35-14E2-47DD-9E39-C3E34C8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1041-7B0E-4FAD-9C39-9518DE8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75F-92EA-4D1D-BA48-F789ACC6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7DF-EE3D-426E-9FF4-65A4FAF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8884-250D-4E3B-8F51-279A50D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CC3-48EF-4699-8CD7-AB4D007B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D27A-BB37-4B49-8352-7706759E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CA7C-CACD-458D-AB94-AF974670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F24-3082-4F7E-88F9-59C648C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DA6-6C7D-4D1E-97B4-7CE88D4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A7C-66DF-4AE2-AF2D-1397832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532-FD56-4B57-9219-3F16E1B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DD9-C880-436F-95A9-208573A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337-9AB1-40B2-BB60-29CDBDE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7BC-68CF-4C5F-9E28-E2A064E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486C-5D03-4F3C-BE97-63D89CB76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CCC0-6BD6-41B3-8627-352381D99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ow Long, O Lord?”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, Lesso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3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34-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41FB-AC3F-415B-8693-F799AF44CC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epare For The En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4:7-1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ings will end; therefore be serious and watchful in your pr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ervent love for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spitable, don’t gru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speaks, let him speak as the oracle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 with the ability which Go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 belongs to God through Jesus Chr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ACA-1096-48D2-B791-8C043A2E09A2}" type="slidenum">
              <a:t>10</a:t>
            </a:fld>
          </a:p>
        </p:txBody>
      </p:sp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dure Suffering As A Christian                    1 Peter 4:12-1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e surprised by the fiery trial which is to try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e as you partake of Christ’s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blessed should you be reproached for the nam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uffer as a murderer or evild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suffer as a christian, don’t be ashamed but glorif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ED8-BABB-4E1B-BFE5-D63A7B7DC697}" type="slidenum">
              <a:t>11</a:t>
            </a:fld>
          </a:p>
        </p:txBody>
      </p:sp>
    </p:spTree>
  </p:cSld>
  <p:transition>
    <p:newsflash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dure Suffering As A Christian                    1 Peter 4:12-1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has come for judgement to begin at the hous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be the end of those who do not obey the gospel of G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971-E80C-4A99-A45B-9289926527A0}" type="slidenum">
              <a:t>12</a:t>
            </a:fld>
          </a:p>
        </p:txBody>
      </p:sp>
    </p:spTree>
  </p:cSld>
  <p:transition>
    <p:push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structions To Elder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5:1-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pherd the flock of God which is among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it willingly and not for dishonest 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ord it over the flock, but be an example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405-24D2-4F77-A341-243BCB114129}" type="slidenum">
              <a:t>13</a:t>
            </a:fld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 Humble, Beware Of Satan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5:5-1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umble, willing to serve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young be subject to those who are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 all your cares upon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ober, be vigilant, resisting the 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you have suffered a while, may God strengthen and establish you, for to Him be the glory and dominion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704-59B8-4CDD-963E-325A4BC614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85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85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385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385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385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385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385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385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385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85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385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385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385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85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385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385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385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v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-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bmissive to your husb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husbands may not have obeyed the word, but without a word may be won by the conduct of their w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prive one another for a time except with consent  1 Cor. 7:5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ogether again, don’t lose self-control  1 Cor. 7:5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know, o wife, whether you will save your husband...? 1 Cor. 7: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D44-7F8B-457D-9CA9-7BCCD2D6F7EC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v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-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ves, don’t concentrate on your outward adorning, but let it be the hidden person of 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tle and quiet spirit is very precious in the sight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In this manner the holy women of old beha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arah obeyed Abraham calling him l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1D1-3742-4F87-AB32-1C8AD150E469}" type="slidenum">
              <a:t>3</a:t>
            </a:fld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usband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bands dwell with your wives with under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them as the weaker vessel and do not mistrea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them and remember you are joint heirs of the grace of lif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them properly so your prayers may not be hin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F7F-7714-4F2F-A1A0-70503BA6F8F5}" type="slidenum">
              <a:t>4</a:t>
            </a:fld>
          </a:p>
        </p:txBody>
      </p:sp>
    </p:spTree>
  </p:cSld>
  <p:transition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otherly Lo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8-1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ll be of one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mpassionate, tenderhearted, courte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blessing to others, not returning evil for evil or reviling for rev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pense to no man evil for evil” (Rom 12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yourself were called to inherit a bl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would love life and see good days, refrain his tongue from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E41-EA8B-4417-813F-CE926F9599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otherly Lo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8-1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lips from speaking guile and turn away from evil and do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peace and pursue it for the eyes of the Lord are on the right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s of the Lord are open to the prayers of the righteous and His face is against those who do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B89-3047-4F4E-9FF1-DCA732692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ffering For Right And Wro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3-2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should suffer for righteousness sake, you are bl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e afraid if you are threatened, but sanctify the Lord God in your hearts and be ready to give a reason for the hope that is i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a good conscience so those who revile your good conduct in Christ may be ash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E9B-E9AC-4007-819C-49CB18684775}" type="slidenum">
              <a:t>7</a:t>
            </a:fld>
          </a:p>
        </p:txBody>
      </p: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ffering For Right And Wro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3-2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better to suffer for doing right than for doing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suffered “once for all”, the just for the unj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Spirit He (Christ) preached to the spirits in prison in the days of N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souls were saved through water (Noah and his family) and there is an antitype which now saves us, bap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1F2-9C49-4F6E-8C86-293D3795DBEE}" type="slidenum">
              <a:t>8</a:t>
            </a:fld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Security Of The Faithful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4:1-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 yourselves with the mind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live in the flesh for the lusts of men, but for the will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we have spent enough of our time walking in various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continue to walk in this flood of dissipation will give an account to Him who is ready to judge the living and the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460-A010-409A-8D6B-9D49A065EB65}" type="slidenum">
              <a:t>9</a:t>
            </a:fld>
          </a:p>
        </p:txBody>
      </p:sp>
    </p:spTree>
  </p:cSld>
  <p:transition>
    <p:cover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4:07:34Z</dcterms:created>
  <dc:creator>billy lauderdale</dc:creator>
  <dc:description/>
  <dc:language>en-US</dc:language>
  <cp:lastModifiedBy>Frank D Vines</cp:lastModifiedBy>
  <dcterms:modified xsi:type="dcterms:W3CDTF">2007-04-23T15:30:55Z</dcterms:modified>
  <cp:revision>22</cp:revision>
  <dc:subject/>
  <dc:title>Slide 1</dc:title>
</cp:coreProperties>
</file>